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9A6-C685-46DF-AAEE-A81597B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566-ABC7-4AA3-8BAB-DFB02DD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A68-E0E1-472C-AF3D-8E8FA4A8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456-7B58-4493-9B65-37857E9D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326-4022-4EC8-BE9F-23334A23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16E9-6D09-4D60-83F2-4B02C907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ABE3-562E-4C15-AC96-FFCA97A4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C7A6-AC8E-41F2-9984-0F4DC12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096-E2BB-4977-9118-63402AD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994C-4030-4DD3-B055-6BE3AC8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330-E809-433C-8B85-55168CB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862-5427-481F-ABAB-36168610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CF47-711E-4316-8EFB-8D8620A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3A7-80C3-4937-A036-16DABE5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C127-7158-4BD9-99B1-0E31557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82CD-037F-4C8F-AEEE-FFA19EDC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4A1-7F23-4F96-9971-51A5B3B5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61E-CF53-4BEA-ADED-65D4B8D4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BE4-714A-4374-ABE4-C263C91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A2-E4AA-4F5F-8CFC-74E4558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F37-AEB7-41F5-8DCA-2FD3BEE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9F2-22BC-45BD-B086-A56FEA8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D5D-280A-497E-A60D-95CB931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2A0-38D4-4643-A690-1D39735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D3C-5F52-4826-9DD5-F759EF371547}" type="datetime">
              <a:rPr b="0" i="1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18E-575B-413D-8167-B74FD2C00116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255-7355-48E1-903E-18823DB3E028}" type="datetime">
              <a:rPr b="0" i="1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6EBD-5757-4E14-B39B-0B03E1D9F408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 Altom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fice of Scientific and Technical Informa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fice of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artment of Energ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 June 199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600200"/>
            <a:ext cx="74674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:  Disseminating a Principle Deliverable of R&amp;D Fundi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7B2-B67B-47B1-8DD2-14C58D054C7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73533-1D8D-442B-832E-7AC8F2731E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public access 38k DOE reports; 2.5 M p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th 15k reports per yea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ourage electronic exchange; “paperless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 sites post documents on local server; provide UR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links to report via UR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ntain core functionality noted abov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996-50DA-44A4-8A27-44E2A0D7EE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C0B45-C6BF-4B45-AC6D-17D464C5CD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 Status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ived awards/recogni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erous, including “Hammer Award” from Vice President Go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itive customer feedbac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ied performance metric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access statistics not exact scien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cument downloads metric of choi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icipated 50k in first year; achieved 70k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timated $3M annual user saving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1A1-19AE-4A46-89EE-776C4EA302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54EDA-3666-4F71-A90A-B453589FB8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Downloa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2680" y="1828800"/>
          <a:ext cx="74833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28800"/>
                    <a:ext cx="74833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E25-E078-405C-868D-7D158ACB0F6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A02D-A97F-43D3-B906-E45F5ED64F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dress identified customer need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porate legacy materia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-1996 OSTI collec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access to existing Web collections; DOE, domestic, and internationa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otiate access to journal literatur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ourage electronic exchange efforts; standard formats, URLs,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grade hardware and software platfor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7A8-8E79-47DE-BEEE-4E8CA77457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6DD12-D3A4-431F-AD4A-8A242E76FE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ure Plans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component of  DOE Virtual Library of Energy Science and Technolog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SCIENCE new initiative to provide access to full text journal literatu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aboration with journal publish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old Varmus, NIH, electronic publishing operation “e-biomed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ant journal publish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85B-D4AC-4BA9-92ED-2FB38713EB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AA7AB-7A7C-40C2-A086-BFF69BBFAA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researchers and scientific public access to intellectual results of R&amp;D funding by cabinet-level agenc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tilize proven information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erage 50+ years experience with information life-cycle manage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ng “Science to the Desktop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DC1-29BF-47F3-841C-D8205D9155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42DCD-ADDD-4741-AE5B-40B816B12F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/GPO partnershi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ttp://www.doe.gov/bridg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duct manag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hy Chambers, 423.576.048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hy_chambers@ccmail.osti.gov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 Altom, 423.576.1170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_altom@ccmail.osti.gov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6240" y="6400800"/>
            <a:ext cx="29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:\cendi\conference\fcw\doe_bridge_altom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F8D-6A6E-4051-87D5-3067046862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B1BF8-09C2-4098-81E8-41CB3D30EB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&amp;D Cycl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Develop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EA4-777C-48AA-9577-788C3FEEA5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45E01-89E7-491D-BDAD-816D2E3A3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artment of Energy (DOE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jor R&amp;D enterpri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able good science; annual $7B R&amp;D budge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6 Nobel laureates (funded by DOE and predecessor agenci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erous R&amp;D 100 award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ly decentralized; 70+ sites, from Long Island, NY to Californi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93D-CBC0-43B5-829E-0A505D10A7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47D3C-2F1E-40C5-88CB-F8606041E8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kground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fice of Scientific and Technical Information  (OSTI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 and promulgate policies, best business practices for scientific and technical information generated by annual $7B R&amp;D invest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 reports as contract deliverab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, process, provide access to R&amp;D results; since 194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partnership with DOE STI communit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941-2B41-40BE-967E-B6510F72E9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1E04C-15ED-4ADC-A2F8-50F08B7AE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&amp;D Cyc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905520" cy="457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3840" y="333684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6320" y="341316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377-7612-40CA-8423-40F374B082F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40D0F-48FF-4BAE-8D29-3A2D0B3E3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STI physical repository of 1.5 million DOE reports (dating from Manhattan Project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per, deteriorating; analog medi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ing bibliographic records describing repor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itiated electronic archive proje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an paper reports; create TIFFG4 im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ild database to link TIFF, bibliographi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E06-C4D3-431C-87F2-B9CA69DFE6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4AE8A-56F7-4B41-967E-5BCAEF274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urrent with electronic archive, monitored evolving Internet and associated information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ology, customer access needs reached “critical mass” in early 199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ined experience Web appli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ded to provide Web access to electronic archive, DOE report colle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ze standard browsers, standard commercial “tools”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204-4942-4582-BD93-C8548269FB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953AD-920E-4FD5-B583-F74FA82FB7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ed prototype; password protect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ilt Web site; OCRed TIFF im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: easy and advanced (Boolean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bliographic; fielded sear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 text (OCRed text); view TIFF ima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wnload full text to deskto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ounced to DOE community Sep 97; 21k DOE reports 1.3 M pages dating from Jan 96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085-E67A-47B3-9880-B7BF596C01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E8FCD-2567-4B2F-8508-DBCB74284F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anded access to public via Government Printing Office (GPO) partnershi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ed public “view” to unclassified, unlimited distribution DOE repor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ctionality - similar to DOE prototyp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iminated passwords; improved navig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ified search, download fun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d “point and click” ic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ounced April 1998; 23k DOE reports 1.5 M p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1AE-9267-48BF-AD1D-ABC30C0743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A1C36-8FE4-4F38-8044-9F55A3547D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Information International</cp:lastModifiedBy>
  <cp:lastPrinted>1999-06-11T15:27:20Z</cp:lastPrinted>
  <dcterms:modified xsi:type="dcterms:W3CDTF">1999-08-19T19:59:37Z</dcterms:modified>
  <cp:revision>28</cp:revision>
  <dc:subject/>
  <dc:title>No Slide Title</dc:title>
</cp:coreProperties>
</file>